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7.wmf" ContentType="image/x-wmf"/>
  <Override PartName="/ppt/media/image4.jpeg" ContentType="image/jpeg"/>
  <Override PartName="/ppt/media/image2.png" ContentType="image/png"/>
  <Override PartName="/ppt/media/image31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media/image30.jpeg" ContentType="image/jpeg"/>
  <Override PartName="/ppt/media/image15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wmf" ContentType="image/x-wmf"/>
  <Override PartName="/ppt/media/image20.png" ContentType="image/png"/>
  <Override PartName="/ppt/media/image28.jpeg" ContentType="image/jpe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935B-0218-4915-B110-6CC21FF34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b050"/>
                </a:solidFill>
                <a:latin typeface="Arial"/>
              </a:rPr>
              <a:t>RN: long lasting excitato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0" lang="fr-FR" sz="1200" spc="-1" strike="noStrike">
                <a:solidFill>
                  <a:srgbClr val="00b050"/>
                </a:solidFill>
                <a:latin typeface="Arial"/>
              </a:rPr>
              <a:t>strictly selective (respond to a single compon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0" lang="fr-FR" sz="1200" spc="-1" strike="noStrike">
                <a:solidFill>
                  <a:srgbClr val="00b050"/>
                </a:solidFill>
                <a:latin typeface="Arial"/>
              </a:rPr>
              <a:t>latency decreases, frequency increases with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PN: biphasic excitatory-inhibito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not selective (respond to several compon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latency shorter, sensitivity higher than for 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0c0"/>
                </a:solidFill>
                <a:latin typeface="Arial"/>
              </a:rPr>
              <a:t>duration of excitation proportional to stim duration not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0c0"/>
                </a:solidFill>
                <a:latin typeface="Arial"/>
              </a:rPr>
              <a:t>inhibition does not code for stim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B3C0-10BC-4D22-99AD-F0F04D32E87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jor component (Z7-12:Ac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umulus 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nor components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 glomeruli to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CED9-AAD5-409A-AE46-2C88D5ABC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C8EB-91BA-483E-8F4F-21178F359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 by dis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ll levels, but specifically between levels and in the middle, difficult region, models are the glue to bring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&gt; R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sponse patterns identification and description (ex: +, -, +/-, -/+, +/-/+, etc.)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heromonal principal compounds VS pheromonal blend, floral compoun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simultaneously recorded neurons (after spike-sorting) responding to 5 pulses of the pheromonal blend. (Puff duration: 200ms, Inter Stimulus Interval: 300ms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3978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956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444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728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444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728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0160" y="301320"/>
            <a:ext cx="602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956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3978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956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444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728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444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728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0160" y="301320"/>
            <a:ext cx="602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956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3523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d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1524240" cy="9745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638600" y="6095880"/>
            <a:ext cx="2000160" cy="5907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7057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7238880" y="5492880"/>
            <a:ext cx="1905120" cy="13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38880" y="5492880"/>
            <a:ext cx="190512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9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2388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526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d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638600" y="6095880"/>
            <a:ext cx="2000160" cy="590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nformatics.sussex.ac.uk/%0Bresearch/pherosy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4725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ity, specificity and rati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ddles of the pheromone system in mo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27428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heroSys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962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.-P. Rospa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RA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962520"/>
            <a:ext cx="25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. Nowot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CNR @ U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gh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962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. Martine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RI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oneTexte 1"/>
          <p:cNvSpPr/>
          <p:nvPr/>
        </p:nvSpPr>
        <p:spPr>
          <a:xfrm>
            <a:off x="1371600" y="380880"/>
            <a:ext cx="585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Task 1b: Population of pheromone-responsive 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19"/>
          <p:cNvSpPr/>
          <p:nvPr/>
        </p:nvSpPr>
        <p:spPr>
          <a:xfrm>
            <a:off x="142920" y="4254480"/>
            <a:ext cx="557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rcRect l="7162" t="31245" r="1993" b="21825"/>
          <a:stretch/>
        </p:blipFill>
        <p:spPr>
          <a:xfrm>
            <a:off x="1397160" y="3270240"/>
            <a:ext cx="6494400" cy="1006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>
            <a:grayscl/>
          </a:blip>
          <a:srcRect l="0" t="22487" r="4020" b="50023"/>
          <a:stretch/>
        </p:blipFill>
        <p:spPr>
          <a:xfrm>
            <a:off x="1397160" y="4218120"/>
            <a:ext cx="6492600" cy="1171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3352680" y="3429000"/>
            <a:ext cx="270000" cy="193824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382760" y="3387600"/>
            <a:ext cx="6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877160" y="3270240"/>
            <a:ext cx="31428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7924680" y="4952880"/>
            <a:ext cx="9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7888320" y="427500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923240" y="3755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7926480" y="340056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397160" y="5381640"/>
            <a:ext cx="679284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4164120" y="5477040"/>
            <a:ext cx="14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ime 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919680" y="544824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5245200" y="5448240"/>
            <a:ext cx="2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6535800" y="544824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2362320" y="316224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10 ng for 200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370160" y="40417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Connecteur droit avec flèche 26"/>
          <p:cNvCxnSpPr/>
          <p:nvPr/>
        </p:nvCxnSpPr>
        <p:spPr>
          <a:xfrm>
            <a:off x="4430520" y="4799160"/>
            <a:ext cx="12150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2" name="ZoneTexte 27"/>
          <p:cNvSpPr/>
          <p:nvPr/>
        </p:nvSpPr>
        <p:spPr>
          <a:xfrm>
            <a:off x="4559040" y="41562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  <a:ea typeface="Arial"/>
              </a:rPr>
              <a:t>Inhib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  <a:ea typeface="Arial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2513160" y="545940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66800" y="1676520"/>
            <a:ext cx="684684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im: Describe the response patterns of ORNs (antenna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d correlate them with those of PNs (antennal 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Investigators: D. Jarriault (PhD), J.-P. Rospars, S. A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600200" y="1828800"/>
            <a:ext cx="4648320" cy="3504960"/>
            <a:chOff x="1600200" y="1828800"/>
            <a:chExt cx="4648320" cy="3504960"/>
          </a:xfrm>
        </p:grpSpPr>
        <p:pic>
          <p:nvPicPr>
            <p:cNvPr id="197" name="Picture 3" descr=""/>
            <p:cNvPicPr/>
            <p:nvPr/>
          </p:nvPicPr>
          <p:blipFill>
            <a:blip r:embed="rId1"/>
            <a:stretch/>
          </p:blipFill>
          <p:spPr>
            <a:xfrm>
              <a:off x="1600200" y="1828800"/>
              <a:ext cx="464832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ZoneTexte 28"/>
            <p:cNvSpPr/>
            <p:nvPr/>
          </p:nvSpPr>
          <p:spPr>
            <a:xfrm>
              <a:off x="5033520" y="319680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ZoneTexte 29"/>
            <p:cNvSpPr/>
            <p:nvPr/>
          </p:nvSpPr>
          <p:spPr>
            <a:xfrm>
              <a:off x="3546720" y="26758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70c0"/>
                  </a:solidFill>
                  <a:latin typeface="Calibri"/>
                  <a:ea typeface="Arial"/>
                </a:rPr>
                <a:t>P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Connecteur droit avec flèche 30"/>
            <p:cNvCxnSpPr/>
            <p:nvPr/>
          </p:nvCxnSpPr>
          <p:spPr>
            <a:xfrm>
              <a:off x="3673800" y="3679200"/>
              <a:ext cx="14886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</p:cxnSp>
        <p:sp>
          <p:nvSpPr>
            <p:cNvPr id="201" name="ZoneTexte 31"/>
            <p:cNvSpPr/>
            <p:nvPr/>
          </p:nvSpPr>
          <p:spPr>
            <a:xfrm>
              <a:off x="3668400" y="3679200"/>
              <a:ext cx="123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crease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nsi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0200" y="2490120"/>
              <a:ext cx="285840" cy="15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74160" y="5135400"/>
              <a:ext cx="142992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rot="16200000">
            <a:off x="216360" y="302796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ike frequency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46400" y="5257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imulus Load [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09600" y="1828800"/>
            <a:ext cx="205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respon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iles en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o the mode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W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0"/>
          <p:cNvSpPr/>
          <p:nvPr/>
        </p:nvSpPr>
        <p:spPr>
          <a:xfrm>
            <a:off x="4724280" y="3032280"/>
            <a:ext cx="426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x pheromone has 3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are the glomeruli in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eromone-responsive neurons projec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2750"/>
          <a:stretch/>
        </p:blipFill>
        <p:spPr>
          <a:xfrm>
            <a:off x="1219320" y="3111480"/>
            <a:ext cx="2544480" cy="2463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2"/>
          <p:cNvSpPr/>
          <p:nvPr/>
        </p:nvSpPr>
        <p:spPr>
          <a:xfrm rot="20382600">
            <a:off x="2612520" y="3143160"/>
            <a:ext cx="1038240" cy="1785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53"/>
          <p:cNvSpPr/>
          <p:nvPr/>
        </p:nvSpPr>
        <p:spPr>
          <a:xfrm rot="20436600">
            <a:off x="3069360" y="49388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MGC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1752480"/>
            <a:ext cx="7696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m: Describe the structure of the Macro-Glomerular Complex (MG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. Couton (PhD), S. Anton, J.-P. Rosp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sk 1c: Projection of ORNs and MGC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sults: MGC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5766480" y="285912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5" descr="070808Z"/>
          <p:cNvPicPr/>
          <p:nvPr/>
        </p:nvPicPr>
        <p:blipFill>
          <a:blip r:embed="rId1"/>
          <a:srcRect l="9989" t="0" r="8999" b="0"/>
          <a:stretch/>
        </p:blipFill>
        <p:spPr>
          <a:xfrm>
            <a:off x="4087800" y="3057480"/>
            <a:ext cx="2016000" cy="2301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6" descr=""/>
          <p:cNvPicPr/>
          <p:nvPr/>
        </p:nvPicPr>
        <p:blipFill>
          <a:blip r:embed="rId2"/>
          <a:srcRect l="18014" t="7372" r="58359" b="33578"/>
          <a:stretch/>
        </p:blipFill>
        <p:spPr>
          <a:xfrm>
            <a:off x="6858000" y="32004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32"/>
          <p:cNvSpPr/>
          <p:nvPr/>
        </p:nvSpPr>
        <p:spPr>
          <a:xfrm rot="13306800">
            <a:off x="8002080" y="3115800"/>
            <a:ext cx="182880" cy="362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e 50"/>
          <p:cNvGrpSpPr/>
          <p:nvPr/>
        </p:nvGrpSpPr>
        <p:grpSpPr>
          <a:xfrm>
            <a:off x="880920" y="3246480"/>
            <a:ext cx="2205360" cy="2041560"/>
            <a:chOff x="880920" y="3246480"/>
            <a:chExt cx="2205360" cy="2041560"/>
          </a:xfrm>
        </p:grpSpPr>
        <p:pic>
          <p:nvPicPr>
            <p:cNvPr id="219" name="Picture 9" descr="070821Rd1"/>
            <p:cNvPicPr/>
            <p:nvPr/>
          </p:nvPicPr>
          <p:blipFill>
            <a:blip r:embed="rId3"/>
            <a:srcRect l="27019" t="9765" r="11474" b="28613"/>
            <a:stretch/>
          </p:blipFill>
          <p:spPr>
            <a:xfrm>
              <a:off x="880920" y="3246480"/>
              <a:ext cx="22053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AutoShape 10"/>
            <p:cNvSpPr/>
            <p:nvPr/>
          </p:nvSpPr>
          <p:spPr>
            <a:xfrm rot="11827800">
              <a:off x="2861640" y="4444560"/>
              <a:ext cx="149040" cy="372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55"/>
          <p:cNvSpPr/>
          <p:nvPr/>
        </p:nvSpPr>
        <p:spPr>
          <a:xfrm>
            <a:off x="2813760" y="4073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57"/>
          <p:cNvSpPr/>
          <p:nvPr/>
        </p:nvSpPr>
        <p:spPr>
          <a:xfrm>
            <a:off x="2198880" y="34304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caly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58"/>
          <p:cNvSpPr/>
          <p:nvPr/>
        </p:nvSpPr>
        <p:spPr>
          <a:xfrm>
            <a:off x="2982240" y="49309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M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 rot="13306800">
            <a:off x="5568840" y="3074760"/>
            <a:ext cx="214560" cy="407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410080" y="251424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58600" y="21337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343040" y="24382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29080" y="1981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omerul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 2: Organization and function of one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4"/>
          <p:cNvSpPr/>
          <p:nvPr/>
        </p:nvSpPr>
        <p:spPr>
          <a:xfrm>
            <a:off x="1645200" y="3352680"/>
            <a:ext cx="665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ask 2a: Neuron types and their structure – func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2b2b2"/>
                </a:solidFill>
                <a:latin typeface="Calibri"/>
                <a:ea typeface="Arial"/>
              </a:rPr>
              <a:t>Task 2b: Amplification of the recept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2b2b2"/>
                </a:solidFill>
                <a:latin typeface="Calibri"/>
                <a:ea typeface="Arial"/>
              </a:rPr>
              <a:t>Task 2c: Response to temporally structured sti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752480"/>
            <a:ext cx="73152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IM: To understand the function of a single glomer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ader: CCNR Sus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2a: Structure-function relations of antennal lobe neur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47920" y="15998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. Elbanna, S. Anton, J.-P. Rosp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ims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. Describe pheromone-responding projection neuron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scribe pheromone-responding local interneuron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. U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injections to describe electrical properties of AL neurons (to build a HH mode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9"/>
          <p:cNvGrpSpPr/>
          <p:nvPr/>
        </p:nvGrpSpPr>
        <p:grpSpPr>
          <a:xfrm>
            <a:off x="4267080" y="4343400"/>
            <a:ext cx="4586760" cy="779400"/>
            <a:chOff x="4267080" y="4343400"/>
            <a:chExt cx="4586760" cy="779400"/>
          </a:xfrm>
        </p:grpSpPr>
        <p:sp>
          <p:nvSpPr>
            <p:cNvPr id="235" name="Line 3"/>
            <p:cNvSpPr/>
            <p:nvPr/>
          </p:nvSpPr>
          <p:spPr>
            <a:xfrm>
              <a:off x="4267080" y="502920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 flipV="1">
              <a:off x="8305920" y="43434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"/>
            <p:cNvSpPr/>
            <p:nvPr/>
          </p:nvSpPr>
          <p:spPr>
            <a:xfrm>
              <a:off x="7848720" y="4800600"/>
              <a:ext cx="457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7774920" y="487656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 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8"/>
            <p:cNvSpPr/>
            <p:nvPr/>
          </p:nvSpPr>
          <p:spPr>
            <a:xfrm>
              <a:off x="8308800" y="4419360"/>
              <a:ext cx="5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3"/>
          <p:cNvSpPr/>
          <p:nvPr/>
        </p:nvSpPr>
        <p:spPr>
          <a:xfrm>
            <a:off x="758880" y="434340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N: Blend 0.1 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760320" y="5410080"/>
            <a:ext cx="13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: Blend 1 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0"/>
          <p:cNvGrpSpPr/>
          <p:nvPr/>
        </p:nvGrpSpPr>
        <p:grpSpPr>
          <a:xfrm>
            <a:off x="5257800" y="1676520"/>
            <a:ext cx="2209680" cy="2209680"/>
            <a:chOff x="5257800" y="1676520"/>
            <a:chExt cx="2209680" cy="2209680"/>
          </a:xfrm>
        </p:grpSpPr>
        <p:pic>
          <p:nvPicPr>
            <p:cNvPr id="243" name="Picture 19" descr="ips070620-1LNs_Series002_z033_ch00"/>
            <p:cNvPicPr/>
            <p:nvPr/>
          </p:nvPicPr>
          <p:blipFill>
            <a:blip r:embed="rId1"/>
            <a:srcRect l="0" t="4950" r="7924" b="2974"/>
            <a:stretch/>
          </p:blipFill>
          <p:spPr>
            <a:xfrm>
              <a:off x="5257800" y="167652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Rectangle 16"/>
            <p:cNvSpPr/>
            <p:nvPr/>
          </p:nvSpPr>
          <p:spPr>
            <a:xfrm>
              <a:off x="7016400" y="17780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L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2"/>
          <p:cNvGrpSpPr/>
          <p:nvPr/>
        </p:nvGrpSpPr>
        <p:grpSpPr>
          <a:xfrm>
            <a:off x="1828800" y="1676520"/>
            <a:ext cx="2209680" cy="2209680"/>
            <a:chOff x="1828800" y="1676520"/>
            <a:chExt cx="2209680" cy="2209680"/>
          </a:xfrm>
        </p:grpSpPr>
        <p:pic>
          <p:nvPicPr>
            <p:cNvPr id="246" name="Picture 21" descr="ips070620-4PN_Series002_z026_ch00"/>
            <p:cNvPicPr/>
            <p:nvPr/>
          </p:nvPicPr>
          <p:blipFill>
            <a:blip r:embed="rId2"/>
            <a:srcRect l="2885" t="2885" r="10576" b="10576"/>
            <a:stretch/>
          </p:blipFill>
          <p:spPr>
            <a:xfrm>
              <a:off x="1828800" y="167652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17"/>
            <p:cNvSpPr/>
            <p:nvPr/>
          </p:nvSpPr>
          <p:spPr>
            <a:xfrm>
              <a:off x="3578400" y="1752480"/>
              <a:ext cx="38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Picture 19" descr=""/>
          <p:cNvPicPr/>
          <p:nvPr/>
        </p:nvPicPr>
        <p:blipFill>
          <a:blip r:embed="rId3"/>
          <a:srcRect l="8181" t="9803" r="22661" b="11950"/>
          <a:stretch/>
        </p:blipFill>
        <p:spPr>
          <a:xfrm>
            <a:off x="2438280" y="5105520"/>
            <a:ext cx="5943600" cy="990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0" descr=""/>
          <p:cNvPicPr/>
          <p:nvPr/>
        </p:nvPicPr>
        <p:blipFill>
          <a:blip r:embed="rId4"/>
          <a:srcRect l="11960" t="7585" r="34568" b="16708"/>
          <a:stretch/>
        </p:blipFill>
        <p:spPr>
          <a:xfrm>
            <a:off x="2362320" y="4191120"/>
            <a:ext cx="5790960" cy="761760"/>
          </a:xfrm>
          <a:prstGeom prst="rect">
            <a:avLst/>
          </a:prstGeom>
          <a:ln w="0">
            <a:noFill/>
          </a:ln>
        </p:spPr>
      </p:pic>
      <p:sp>
        <p:nvSpPr>
          <p:cNvPr id="250" name="Straight Connector 22"/>
          <p:cNvSpPr/>
          <p:nvPr/>
        </p:nvSpPr>
        <p:spPr>
          <a:xfrm>
            <a:off x="4267080" y="58672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ation of projection neurons and local interneu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 3: MGC Network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21800" y="2089080"/>
            <a:ext cx="697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 partner: LORIA N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3a: The multi-glomerular network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recognising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3b: Emergence of synchrony (oscillation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Task 3c: Role of osci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3d: Role of inhibition in shap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3a: Recognition of blend ratios in a HH network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16920" y="178452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. Zavada, D. Martinez, J.-P. Rospars and T. Nowot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21648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1447920"/>
            <a:ext cx="6153120" cy="4819680"/>
            <a:chOff x="914400" y="1447920"/>
            <a:chExt cx="6153120" cy="48196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1066680" y="1447920"/>
              <a:ext cx="6000840" cy="48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914400" y="1600200"/>
              <a:ext cx="533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0320" y="1547640"/>
              <a:ext cx="3200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315200" y="4724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31520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59760" y="4680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ent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6855840" y="331524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ent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5334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tein synthesis and traff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66480" y="480060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branes and ion chann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8920" y="426708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napses and neu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3960" y="37339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-population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2004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al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4640" y="274320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i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6200" y="22860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00240" y="182880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1828800"/>
            <a:ext cx="228600" cy="4191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9f5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1828800"/>
            <a:ext cx="228600" cy="4191120"/>
          </a:xfrm>
          <a:prstGeom prst="rect">
            <a:avLst/>
          </a:prstGeom>
          <a:gradFill rotWithShape="0">
            <a:gsLst>
              <a:gs pos="0">
                <a:srgbClr val="f5ecd2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171480" y="346284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tom-up bio-chemist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ctro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85440" y="3276360"/>
            <a:ext cx="24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p-down behaviou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rge scale 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9091400">
            <a:off x="1580760" y="3199680"/>
            <a:ext cx="636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Mistral"/>
              </a:rPr>
              <a:t>Mission Imposs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19320" y="22096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im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erstanding how pheromone information is encoded in a “simple” bra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ultaneous recordings of several neur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terminin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espons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amin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ality Coding and Quantitativ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vestigat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mporal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20840" y="392040"/>
            <a:ext cx="6923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301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3b: Extracellular recordings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grotis ipsilon (multi-neuron corre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1600200"/>
            <a:ext cx="7467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. Chaffiol, D. Martinez and J.-P. Rosp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8610840" cy="1754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680160" y="2048040"/>
            <a:ext cx="2179800" cy="1622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rot="20520000">
            <a:off x="7261200" y="3208320"/>
            <a:ext cx="34920" cy="104292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08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1580000">
            <a:off x="7259760" y="2090160"/>
            <a:ext cx="33120" cy="104436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31200" y="3708360"/>
            <a:ext cx="1042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trac. Pipette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207200" y="1650960"/>
            <a:ext cx="1042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trac. Pipette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42120" y="2997360"/>
            <a:ext cx="719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28160" y="2327400"/>
            <a:ext cx="6537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32760" y="2909880"/>
            <a:ext cx="727200" cy="725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64160" y="3303720"/>
            <a:ext cx="654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MG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26440" y="3094200"/>
            <a:ext cx="569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45560" y="2119320"/>
            <a:ext cx="936360" cy="72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2100000">
            <a:off x="6931080" y="2922480"/>
            <a:ext cx="245880" cy="4557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467480" y="2514600"/>
            <a:ext cx="623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Lucida Sans Unicode"/>
              </a:rPr>
              <a:t>PN ax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71800" y="1752480"/>
            <a:ext cx="3657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8480"/>
                <a:tab algn="l" pos="2625840"/>
                <a:tab algn="l" pos="3281400"/>
                <a:tab algn="l" pos="3940200"/>
                <a:tab algn="l" pos="4595760"/>
                <a:tab algn="l" pos="52513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56480"/>
                <a:tab algn="l" pos="8964720"/>
                <a:tab algn="l" pos="9371160"/>
                <a:tab algn="l" pos="977904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GC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tracellular recordings of neurons sensitive to the pherom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with two glass pipett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ong-lasting recordings (&gt;1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f small populations (1 to  5 neuron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3760" y="6270480"/>
            <a:ext cx="85564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1143000" y="1905120"/>
            <a:ext cx="1633680" cy="15872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ellular recordings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grotis ipsi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1371600" y="1752480"/>
            <a:ext cx="6360840" cy="3117600"/>
            <a:chOff x="1371600" y="1752480"/>
            <a:chExt cx="6360840" cy="311760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1371600" y="1752480"/>
              <a:ext cx="6360840" cy="76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1371600" y="2439000"/>
              <a:ext cx="636084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3"/>
            <a:stretch/>
          </p:blipFill>
          <p:spPr>
            <a:xfrm>
              <a:off x="1371600" y="3097440"/>
              <a:ext cx="636084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4"/>
            <a:stretch/>
          </p:blipFill>
          <p:spPr>
            <a:xfrm>
              <a:off x="1371600" y="3759480"/>
              <a:ext cx="6360840" cy="111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"/>
          <p:cNvSpPr/>
          <p:nvPr/>
        </p:nvSpPr>
        <p:spPr>
          <a:xfrm>
            <a:off x="5224320" y="163440"/>
            <a:ext cx="1306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7320" y="654120"/>
            <a:ext cx="98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19320" y="54100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972920" y="18288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01 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65720" y="25909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1 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360" y="327672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954920" y="397656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 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ntitative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5003640"/>
            <a:ext cx="52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se-response with the pheromonal 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3d: The role of inter- and intra glomerular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526080" cy="2668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648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a-glomerular inhibition: PNs are disinhibited by their preferred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-glomerular inhibition : PNs are inhibited by the non-preferred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24080" y="1676520"/>
            <a:ext cx="78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. Belmabrouk, T. Nowotny, J.-P. Rospars and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. Martinez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ct pheromone blend induces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581280" cy="2921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809880" cy="2620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219320" y="4876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nchronization of two PNs connected to the cumulus stimulated by the C15 (left) and the blend (righ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to experiment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3784680" cy="43336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353920" y="1905120"/>
            <a:ext cx="33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del predi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confirme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2057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66080" y="205740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1752480"/>
            <a:ext cx="723888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roscience (also) needs the “systems approach” with (at le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ery close combination of model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s and models that brid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several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tch </a:t>
            </a:r>
            <a:br>
              <a:rPr sz="2400"/>
            </a:br>
            <a:r>
              <a:rPr b="0" lang="en-US" sz="2400" spc="-1" strike="noStrike" u="sng">
                <a:solidFill>
                  <a:srgbClr val="996600"/>
                </a:solidFill>
                <a:uFillTx/>
                <a:latin typeface="Verdana"/>
                <a:hlinkClick r:id="rId1"/>
              </a:rPr>
              <a:t>http://www.informatics.sussex.ac.uk/_x000b_research/pherosys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or up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eromone system of mo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010280" y="1600200"/>
            <a:ext cx="1633680" cy="158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405160" y="1828800"/>
            <a:ext cx="152388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9040" y="3276720"/>
            <a:ext cx="1523880" cy="83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ten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52920" y="4572000"/>
            <a:ext cx="1524240" cy="83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shroo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26040" y="18288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illa recor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55680" y="338472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a-cellular recor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76920" y="373392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ra-cellular recor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5240" y="2209680"/>
            <a:ext cx="15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c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0680" y="29718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51200" y="32767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79000" y="3657600"/>
            <a:ext cx="326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glomerul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(sensi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acro-glomerul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complex (ratio recogn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912120" y="2634120"/>
            <a:ext cx="5201640" cy="2459880"/>
            <a:chOff x="3912120" y="2634120"/>
            <a:chExt cx="5201640" cy="2459880"/>
          </a:xfrm>
        </p:grpSpPr>
        <p:sp>
          <p:nvSpPr>
            <p:cNvPr id="133" name=""/>
            <p:cNvSpPr/>
            <p:nvPr/>
          </p:nvSpPr>
          <p:spPr>
            <a:xfrm rot="2418600">
              <a:off x="3929040" y="2819520"/>
              <a:ext cx="685800" cy="304560"/>
            </a:xfrm>
            <a:prstGeom prst="rightArrow">
              <a:avLst>
                <a:gd name="adj1" fmla="val 49676"/>
                <a:gd name="adj2" fmla="val 78353"/>
              </a:avLst>
            </a:prstGeom>
            <a:solidFill>
              <a:srgbClr val="00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418600">
              <a:off x="5452560" y="4114800"/>
              <a:ext cx="685800" cy="304920"/>
            </a:xfrm>
            <a:prstGeom prst="rightArrow">
              <a:avLst>
                <a:gd name="adj1" fmla="val 49676"/>
                <a:gd name="adj2" fmla="val 78261"/>
              </a:avLst>
            </a:prstGeom>
            <a:solidFill>
              <a:srgbClr val="00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53120" y="4648320"/>
              <a:ext cx="685800" cy="304560"/>
            </a:xfrm>
            <a:prstGeom prst="rightArrow">
              <a:avLst>
                <a:gd name="adj1" fmla="val 49676"/>
                <a:gd name="adj2" fmla="val 78353"/>
              </a:avLst>
            </a:prstGeom>
            <a:solidFill>
              <a:srgbClr val="00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29640" y="4451400"/>
              <a:ext cx="128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e-moto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101400" y="2194920"/>
            <a:ext cx="2636280" cy="2391840"/>
            <a:chOff x="3101400" y="2194920"/>
            <a:chExt cx="2636280" cy="2391840"/>
          </a:xfrm>
        </p:grpSpPr>
        <p:sp>
          <p:nvSpPr>
            <p:cNvPr id="138" name=""/>
            <p:cNvSpPr/>
            <p:nvPr/>
          </p:nvSpPr>
          <p:spPr>
            <a:xfrm rot="20073600">
              <a:off x="3124080" y="2438280"/>
              <a:ext cx="1219320" cy="381240"/>
            </a:xfrm>
            <a:prstGeom prst="leftRightArrow">
              <a:avLst>
                <a:gd name="adj1" fmla="val 50000"/>
                <a:gd name="adj2" fmla="val 6367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073600">
              <a:off x="4495680" y="3962520"/>
              <a:ext cx="1219320" cy="380880"/>
            </a:xfrm>
            <a:prstGeom prst="leftRightArrow">
              <a:avLst>
                <a:gd name="adj1" fmla="val 50000"/>
                <a:gd name="adj2" fmla="val 6373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064680" y="2090520"/>
            <a:ext cx="2633760" cy="2218680"/>
            <a:chOff x="3064680" y="2090520"/>
            <a:chExt cx="2633760" cy="2218680"/>
          </a:xfrm>
        </p:grpSpPr>
        <p:sp>
          <p:nvSpPr>
            <p:cNvPr id="141" name=""/>
            <p:cNvSpPr/>
            <p:nvPr/>
          </p:nvSpPr>
          <p:spPr>
            <a:xfrm rot="13622400">
              <a:off x="3009600" y="3542760"/>
              <a:ext cx="1219320" cy="380880"/>
            </a:xfrm>
            <a:prstGeom prst="leftRightArrow">
              <a:avLst>
                <a:gd name="adj1" fmla="val 50000"/>
                <a:gd name="adj2" fmla="val 6373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622400">
              <a:off x="4533480" y="2475720"/>
              <a:ext cx="1219320" cy="381240"/>
            </a:xfrm>
            <a:prstGeom prst="leftRightArrow">
              <a:avLst>
                <a:gd name="adj1" fmla="val 50000"/>
                <a:gd name="adj2" fmla="val 6367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reme sensi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reme specificity – to a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ble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le of oscillations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we find good (optimal?) coding strategi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720" y="1828800"/>
            <a:ext cx="189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. T. Nowotny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Dr. A. Zavada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Dr. C. L. Buck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3352680"/>
            <a:ext cx="29718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. J. P. Rosp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. S. Ant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. P. Lucas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Dr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S. Elbanna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Dr. A. Chaffiol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. Y. Gu, Dr. R. Barrozo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. M. Graus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. Brochet-Couton, D. Jarriaul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68520" y="437364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. D. Martinez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H. Belmabrou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. Grémi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5365800" cy="2239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771600" y="1859040"/>
            <a:ext cx="198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esy of Googl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362320"/>
            <a:ext cx="99036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2362320"/>
            <a:ext cx="99036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362320"/>
            <a:ext cx="99036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60480" y="312408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ntennal input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e antennal lob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4680" y="327672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ngle glomer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34800" y="327672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GC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9120" y="396252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d partner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RA Vers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8120" y="396252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d partner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CNR Sus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6400" y="396252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d partner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RIA N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50480" y="502920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partners have tasks in all work pac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990720" y="30492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WP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.  Antennal Input to the Antennal 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4"/>
          <p:cNvSpPr/>
          <p:nvPr/>
        </p:nvSpPr>
        <p:spPr>
          <a:xfrm>
            <a:off x="1734480" y="2514600"/>
            <a:ext cx="62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ask 1a: Single ORN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ask 1b: Population of O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ask 1c: Projection of ORN and MGC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1752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ader: INRA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55436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oneTexte 3"/>
          <p:cNvSpPr/>
          <p:nvPr/>
        </p:nvSpPr>
        <p:spPr>
          <a:xfrm>
            <a:off x="1371600" y="457200"/>
            <a:ext cx="569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Task 1a: Single ORN invest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528720" cy="3421080"/>
          </a:xfrm>
          <a:prstGeom prst="rect">
            <a:avLst/>
          </a:prstGeom>
          <a:ln w="0">
            <a:noFill/>
          </a:ln>
        </p:spPr>
      </p:pic>
      <p:sp>
        <p:nvSpPr>
          <p:cNvPr id="168" name="ZoneTexte 6"/>
          <p:cNvSpPr/>
          <p:nvPr/>
        </p:nvSpPr>
        <p:spPr>
          <a:xfrm>
            <a:off x="1371600" y="4267080"/>
            <a:ext cx="3124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Electrical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Stimulu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 Receptor potential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 Action pot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981080"/>
            <a:ext cx="320040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im: Modelling single ORN responses based on </a:t>
            </a: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cellular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Y. Gu (postdoc), P. Lucas, J.-P. Rosp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Modelling of cellular proces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Gu et al - Fig 3"/>
          <p:cNvPicPr/>
          <p:nvPr/>
        </p:nvPicPr>
        <p:blipFill>
          <a:blip r:embed="rId1"/>
          <a:stretch/>
        </p:blipFill>
        <p:spPr>
          <a:xfrm>
            <a:off x="1371600" y="1752480"/>
            <a:ext cx="5286240" cy="2489400"/>
          </a:xfrm>
          <a:prstGeom prst="rect">
            <a:avLst/>
          </a:prstGeom>
          <a:ln w="0">
            <a:noFill/>
          </a:ln>
        </p:spPr>
      </p:pic>
      <p:sp>
        <p:nvSpPr>
          <p:cNvPr id="172" name="ZoneTexte 7"/>
          <p:cNvSpPr/>
          <p:nvPr/>
        </p:nvSpPr>
        <p:spPr>
          <a:xfrm>
            <a:off x="1219320" y="4495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timulu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Receptor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G protein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ffecto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second messenger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Ionic channel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ionic current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Receptor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1:50:20Z</dcterms:created>
  <dc:creator>Thomas</dc:creator>
  <dc:description/>
  <dc:language>en-US</dc:language>
  <cp:lastModifiedBy>Thomas</cp:lastModifiedBy>
  <dcterms:modified xsi:type="dcterms:W3CDTF">2008-12-16T00:38:58Z</dcterms:modified>
  <cp:revision>17</cp:revision>
  <dc:subject/>
  <dc:title>Olfactory Coding in the Insect Pheromone Pathway</dc:title>
</cp:coreProperties>
</file>